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3.xml" ContentType="application/vnd.openxmlformats-officedocument.presentationml.comments+xml"/>
  <Override PartName="/ppt/comments/comment3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aura Lawrie" initials="LL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11-16T08:10:31.290000000" idx="1">
    <p:pos x="5461" y="1373"/>
    <p:text>AU: Please confirm that this is what is meant to be on this slide</p:text>
  </p:cm>
</p:cmLst>
</file>

<file path=ppt/comments/comment31.xml><?xml version="1.0" encoding="utf-8"?>
<p:cmLst xmlns:p="http://schemas.openxmlformats.org/presentationml/2006/main">
  <p:cm authorId="0" dt="2011-11-16T08:11:56.874000000" idx="2">
    <p:pos x="5374" y="2035"/>
    <p:text>AU: Please confirm: this slide and the previous one are exactly the sam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5D8D-6F89-47A9-AAB1-59790FD7F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48C3-D9D3-4CAF-94C9-BDA855D5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57B9-C6A9-4A53-B3A0-7114DAF3AB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: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High-speed transmission of information via light through glass or plastic fi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BF11-016A-44DA-8558-B21C224A3B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Internet protocol: TCP/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—HTTP (hyper text transfer protocol), HTML (hypertext markup langu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hnically speaking, the Web is made up of an interconnected set of computer servers on the Internet that subscribe to a set of TCP/IP network-interface protocols. These technical protocols include assigning to a website a Uniform Resource Locator (URL) based on its TCP/IP Internet address, which is the website address that web users are familiar wi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AE5-4834-4376-8A8A-944328A575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03EC-9312-48FA-BF04-8122F948F6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-free services are shifting to subscription,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mium,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other monetary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E19-98F1-4B7D-A330-930277951F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Net neutrality: The Internet should not discriminate among the types of content that pass through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Cable and phone companies seek a 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tiered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 system, violating Net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Would make those companies Internet gatekee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8E1A-288A-4466-88DA-5E26DA7799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arnoff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 Law: The value of a network increases linearly the more people are on that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Metcalfe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 Law: The value of a network rises in proportion to the square of the number of people on that net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Reed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 Law: The utility of a network increases exponenti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BE4F-23DC-4350-B06C-03FBAEAA5D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Modem: MOdulate-DEModulate; converts digital information for trans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Peer-to-peer (P2P): A network in which all participants are equal (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peers</a:t>
            </a:r>
            <a:r>
              <a:rPr b="0" lang="ja-JP" sz="1200" spc="-1" strike="noStrike">
                <a:solidFill>
                  <a:srgbClr val="ffcc66"/>
                </a:solidFill>
                <a:latin typeface="Calibri"/>
              </a:rPr>
              <a:t>”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Sp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Client/server model: Central computer (server) that stores information for cl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253-DCC6-4BC6-BAE1-D6A4495655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Wireless networks: Use signals similar to radio and 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Connectivity: The ability of people and their electronic devices to link to the Internet and other me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cc66"/>
                </a:solidFill>
                <a:latin typeface="Calibri"/>
              </a:rPr>
              <a:t>Quality of service: The reliability, efficiency, and effectiveness of a network conn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EC2-AFB1-407F-B085-0CC65B74C7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Distributing bits: Sending the 1s and 0s of digital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Low distribution costs: Nothing physical to s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Perfect infinite copies: The source never run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Instantaneous distribution: By avoiding physical deli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New distribution dynamics: No restrictions on trans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Audience as distribu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249-1F2D-4BD1-BE39-3EBB6689B1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Nap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Used central 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Argued 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fair use</a:t>
            </a:r>
            <a:r>
              <a:rPr b="0" lang="ja-JP" sz="1200" spc="-1" strike="noStrike">
                <a:solidFill>
                  <a:srgbClr val="ff6fcf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ff6fcf"/>
                </a:solidFill>
                <a:latin typeface="Calibri"/>
              </a:rPr>
              <a:t>Open source: A program with source code that can be seen by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48FB-EA60-42C1-B9F7-3F152B9657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D8E3-E324-48C1-9C6C-BC07217CBF2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BFB8-7BCE-42AC-9A9D-1343986CBF8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F637-54FE-4CEC-8ACD-D9F7C28859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489E-3AFE-4DF2-B930-1E59B23D8E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C2F1-DEA3-460C-8292-52233C5475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B97E-F892-48A9-B110-9DFF0933A5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F936-B93C-4BFF-9E5A-214FD61C55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ow might things change if the government supports the development of broadband Internet for every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B9DA-014C-471B-AA10-ABAF69D62E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4CC3-AD33-4D42-B10F-4B215F3EB2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220-A8F3-4D8A-84C6-E31AAAC8EE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these services need to have guidelines? If so, what? Are guidelines even possib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955D-24E8-4FA2-88E6-97A83BC622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3F8A-EC88-4060-97B6-B333ABCDAA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ould that be paid for and managed? How would it affect the quality of Internet service? What would the social effects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D15B-FB8F-4C80-A7D0-4A6D9FCC68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5632-C619-43BC-A92B-CE74B89C05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F507-EADF-4EE6-8071-1AB3AFD3B6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0BE6-DD46-49DA-B40E-31B4D6362B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B94-8460-4700-B92E-D7C5E07252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al distribution has gone from a unidirectional model, in the analog world, in which large media companies send out messages to a mass and largely silent audience, to one in which the public can distribute content as widely as an established media company, all without spending money on advertising or marke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610C-54D4-4DE8-A4F8-AA7FE1FA04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Time-space compression: Networks speed up time and shrink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9096-456D-449E-93AF-D3BA7B42AE8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Government (postal sys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Pros: Public service, universal access, financial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Cons: Bureaucracy, obstacles to inno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Private industry (telegrap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Pros: Rapid technological advances, greater inno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cc66ff"/>
                </a:solidFill>
                <a:latin typeface="Calibri"/>
              </a:rPr>
              <a:t>Cons: Competitive chaos, profit-oriented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7AAD-C556-4FCB-8F34-7AB0CA4666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Telegraphy — Samuel Mor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and patented the electromagnetic telegraph, which marked the beginning of today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nformation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Telep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Alexander Graham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AT&amp;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Circuit swit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Packet swit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4F81-B638-42E7-9F7B-154127C88EB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Wir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Radio, tele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Ship-to-ship commun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Airwave as as limited 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Large bandwi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— </a:t>
            </a:r>
            <a:r>
              <a:rPr b="0" lang="en-US" sz="1200" spc="-1" strike="noStrike">
                <a:solidFill>
                  <a:srgbClr val="66ffcc"/>
                </a:solidFill>
                <a:latin typeface="Calibri"/>
              </a:rPr>
              <a:t>Remote 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9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E05-D2D5-453A-9259-514B245A4FE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4A7-3220-41A5-A122-48A32B5F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633-9CAA-46DA-82A0-BE36DF77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06B-2C27-4F40-978B-A8D1C85A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925-BE12-40A8-A053-42875FAF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74E-BDE4-4F0F-A6DD-4E59B90D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712C-7FE0-4F6F-A290-F55489CD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A4EB-352F-43FA-942C-3052CC5A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0CB-9533-422B-9211-E310961B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0D36-6B87-442D-BB51-034C4792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800B-766A-478E-9093-279B1E21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1C63-AC14-43ED-8878-62A3831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EBF-16D1-4180-A2D8-339DD241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999D-37CA-436F-A19E-B240F516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9432-F5BD-46E5-8D60-6D07BE5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77D2-67A1-4632-BB59-A1C4140B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30B4-4D6E-459D-8114-D64F0B2D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CBFE-0063-490C-9404-47781D3A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2FF-30B9-4006-9360-C2FAA86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CAB-E573-422A-AE48-E8A16243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746-6A59-4A7D-82B9-4FADC79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C45-B8FF-440B-9D61-FE5B2FA6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FCE-B43A-4FEF-84C9-F06AD571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0CA6-6C3C-4A4B-86B3-7333120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645-00CA-49E5-A12A-7C55F374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5D07-BA09-40DC-BA4F-7AEFA23108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D6A2-96FA-40AE-AD0E-5E9CC2FE62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3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90720" y="91440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4400"/>
            </a:b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ebff"/>
                </a:solidFill>
                <a:latin typeface="Tahoma"/>
              </a:rPr>
              <a:t>A New </a:t>
            </a:r>
            <a:r>
              <a:rPr b="1" lang="en-US" sz="4400" spc="-1" strike="noStrike">
                <a:solidFill>
                  <a:srgbClr val="b7ec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2ebff"/>
                </a:solidFill>
                <a:latin typeface="Tahoma"/>
              </a:rPr>
              <a:t>to Mass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volving Technology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1295280" y="1752480"/>
            <a:ext cx="73152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Fiber optic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—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Optical tele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—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Bell</a:t>
            </a:r>
            <a:r>
              <a:rPr b="0" lang="ja-JP" sz="4400" spc="-1" strike="noStrike">
                <a:solidFill>
                  <a:srgbClr val="66ffcc"/>
                </a:solidFill>
                <a:latin typeface="Tahoma"/>
              </a:rPr>
              <a:t>’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s Photoph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— 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Expensive to deliver to all ho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ffcc"/>
                </a:solidFill>
                <a:latin typeface="Tahoma"/>
              </a:rPr>
              <a:t>- FiO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1"/>
          <p:cNvSpPr/>
          <p:nvPr/>
        </p:nvSpPr>
        <p:spPr>
          <a:xfrm>
            <a:off x="1219320" y="60948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History of Internet and WWW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1295280" y="1752480"/>
            <a:ext cx="731520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DARPA creates Advanced Research Projects Agency Network (ARPAnet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Internet protoc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WW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1"/>
          <p:cNvSpPr/>
          <p:nvPr/>
        </p:nvSpPr>
        <p:spPr>
          <a:xfrm>
            <a:off x="1219320" y="609480"/>
            <a:ext cx="7238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History of Internet and WWW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1295280" y="1752480"/>
            <a:ext cx="731520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GUI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Mosaic, then Netscape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Internet Explorer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Firefox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cc66"/>
                </a:solidFill>
                <a:latin typeface="Tahoma"/>
              </a:rPr>
              <a:t>Chrome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1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Internet Today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1295280" y="1752480"/>
            <a:ext cx="731520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Decrease in cost of software and hardware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Increasing trend for rising cost of services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1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Tahoma"/>
              </a:rPr>
              <a:t>Internet Today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1295280" y="1752480"/>
            <a:ext cx="7315200" cy="44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Increasingly intrusive advertising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Net neutrality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Bandwidth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100" spc="-1" strike="noStrike">
                <a:solidFill>
                  <a:srgbClr val="ff6fcf"/>
                </a:solidFill>
                <a:latin typeface="Tahoma"/>
              </a:rPr>
              <a:t>Broadband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The Nature of Network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1295280" y="1752480"/>
            <a:ext cx="731520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arnoff</a:t>
            </a:r>
            <a:r>
              <a:rPr b="0" lang="ja-JP" sz="6900" spc="-1" strike="noStrike">
                <a:solidFill>
                  <a:srgbClr val="ffcc66"/>
                </a:solidFill>
                <a:latin typeface="Tahoma"/>
              </a:rPr>
              <a:t>’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 Law</a:t>
            </a:r>
            <a:endParaRPr b="0" lang="en-US" sz="6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Metcalfe</a:t>
            </a:r>
            <a:r>
              <a:rPr b="0" lang="ja-JP" sz="6900" spc="-1" strike="noStrike">
                <a:solidFill>
                  <a:srgbClr val="ffcc66"/>
                </a:solidFill>
                <a:latin typeface="Tahoma"/>
              </a:rPr>
              <a:t>’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 Law</a:t>
            </a:r>
            <a:endParaRPr b="0" lang="en-US" sz="6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Reed</a:t>
            </a:r>
            <a:r>
              <a:rPr b="0" lang="ja-JP" sz="6900" spc="-1" strike="noStrike">
                <a:solidFill>
                  <a:srgbClr val="ffcc66"/>
                </a:solidFill>
                <a:latin typeface="Tahoma"/>
              </a:rPr>
              <a:t>’</a:t>
            </a:r>
            <a:r>
              <a:rPr b="0" lang="en-US" sz="6900" spc="-1" strike="noStrike">
                <a:solidFill>
                  <a:srgbClr val="ffcc66"/>
                </a:solidFill>
                <a:latin typeface="Tahoma"/>
              </a:rPr>
              <a:t>s Law</a:t>
            </a:r>
            <a:endParaRPr b="0" lang="en-US" sz="6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Networks: Key Concept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1295280" y="1752480"/>
            <a:ext cx="73152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Modem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Peer-to-peer (P2P)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5500" spc="-1" strike="noStrike">
                <a:solidFill>
                  <a:srgbClr val="ffcc66"/>
                </a:solidFill>
                <a:latin typeface="Tahoma"/>
              </a:rPr>
              <a:t>Client/server model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Networks: Key Concept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295280" y="1752480"/>
            <a:ext cx="731520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Wireless networks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Connectivity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6200" spc="-1" strike="noStrike">
                <a:solidFill>
                  <a:srgbClr val="ffcc66"/>
                </a:solidFill>
                <a:latin typeface="Tahoma"/>
              </a:rPr>
              <a:t>Quality of service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1"/>
          <p:cNvSpPr/>
          <p:nvPr/>
        </p:nvSpPr>
        <p:spPr>
          <a:xfrm>
            <a:off x="1219320" y="609480"/>
            <a:ext cx="7238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haracteristics of Digital Distributio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295280" y="1752480"/>
            <a:ext cx="7315200" cy="60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Distributing bit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Low distribution cost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Perfect infinite copie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Instantaneous distribution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New distribution dynamics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• </a:t>
            </a:r>
            <a:r>
              <a:rPr b="0" lang="en-US" sz="4300" spc="-1" strike="noStrike">
                <a:solidFill>
                  <a:srgbClr val="66ff66"/>
                </a:solidFill>
                <a:latin typeface="Tahoma"/>
              </a:rPr>
              <a:t>Audience as distributor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1"/>
          <p:cNvSpPr/>
          <p:nvPr/>
        </p:nvSpPr>
        <p:spPr>
          <a:xfrm>
            <a:off x="1219320" y="609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e-Sharing Serv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295280" y="1752480"/>
            <a:ext cx="73152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P2P networks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Napster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Decentralized file-sharing services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300" spc="-1" strike="noStrike">
                <a:solidFill>
                  <a:srgbClr val="ff6fcf"/>
                </a:solidFill>
                <a:latin typeface="Tahoma"/>
              </a:rPr>
              <a:t>Open source</a:t>
            </a:r>
            <a:endParaRPr b="0" lang="en-US" sz="5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Networks and Digital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1"/>
          <p:cNvSpPr/>
          <p:nvPr/>
        </p:nvSpPr>
        <p:spPr>
          <a:xfrm>
            <a:off x="1219320" y="6094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e Sharing Servic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1295280" y="1752480"/>
            <a:ext cx="73152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Gnutella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Freenet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Jabber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•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BitTorrent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	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— </a:t>
            </a:r>
            <a:r>
              <a:rPr b="0" lang="en-US" sz="5000" spc="-1" strike="noStrike">
                <a:solidFill>
                  <a:srgbClr val="ff6fcf"/>
                </a:solidFill>
                <a:latin typeface="Tahoma"/>
              </a:rPr>
              <a:t>Swarming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1"/>
          <p:cNvSpPr/>
          <p:nvPr/>
        </p:nvSpPr>
        <p:spPr>
          <a:xfrm>
            <a:off x="1219320" y="60948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New Distribution Technologie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1295280" y="1752480"/>
            <a:ext cx="73152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Legal issu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 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Fair compensat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Watermark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ja-JP" sz="4500" spc="-1" strike="noStrike">
                <a:solidFill>
                  <a:srgbClr val="ffcc66"/>
                </a:solidFill>
                <a:latin typeface="Tahoma"/>
              </a:rPr>
              <a:t>“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Publishing</a:t>
            </a:r>
            <a:r>
              <a:rPr b="0" lang="ja-JP" sz="4500" spc="-1" strike="noStrike">
                <a:solidFill>
                  <a:srgbClr val="ffcc66"/>
                </a:solidFill>
                <a:latin typeface="Tahoma"/>
              </a:rPr>
              <a:t>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ffcc66"/>
                </a:solidFill>
                <a:latin typeface="Tahoma"/>
              </a:rPr>
              <a:t>Libel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1219320" y="60948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New Distribution Technologie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295280" y="1752480"/>
            <a:ext cx="73152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Ethical issu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Public humiliat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Invasion of privacy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ja-JP" sz="4500" spc="-1" strike="noStrike">
                <a:solidFill>
                  <a:srgbClr val="66ffcc"/>
                </a:solidFill>
                <a:latin typeface="Tahoma"/>
              </a:rPr>
              <a:t>“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Right to know</a:t>
            </a:r>
            <a:r>
              <a:rPr b="0" lang="ja-JP" sz="4500" spc="-1" strike="noStrike">
                <a:solidFill>
                  <a:srgbClr val="66ffcc"/>
                </a:solidFill>
                <a:latin typeface="Tahoma"/>
              </a:rPr>
              <a:t>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1"/>
          <p:cNvSpPr/>
          <p:nvPr/>
        </p:nvSpPr>
        <p:spPr>
          <a:xfrm>
            <a:off x="1219320" y="609480"/>
            <a:ext cx="7238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ahoma"/>
              </a:rPr>
              <a:t>New Distribution Technologies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1295280" y="1752480"/>
            <a:ext cx="73152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Social issu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Global villag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Tribal existenc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Online attack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66ffcc"/>
                </a:solidFill>
                <a:latin typeface="Tahoma"/>
              </a:rPr>
              <a:t>Unwanted receipt of messages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cussion Question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295280" y="175248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00"/>
                </a:solidFill>
                <a:latin typeface="Tahoma"/>
              </a:rPr>
              <a:t>Have you ever mass-forwarded something? What was it? What were the consequences for the people involved — and the recipients?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1295280" y="1752480"/>
            <a:ext cx="731520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How do you think the telecommunication landscape might be different if the U.S. had supported a nationwide telegraph system, instead of relying on private industry to do so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1295280" y="1752480"/>
            <a:ext cx="7315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What industries could benefit from the rapid dissemination of information? How and why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295280" y="1752480"/>
            <a:ext cx="73152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How could our common methods of online communication be improved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1295280" y="1752480"/>
            <a:ext cx="73152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ahoma"/>
              </a:rPr>
              <a:t>What are the social, political, and economic ramifications of such anonymous free information services as Freenet?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990720" y="2133720"/>
            <a:ext cx="792468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ffcc"/>
                </a:solidFill>
                <a:latin typeface="Tahoma"/>
              </a:rPr>
              <a:t>WELCOME TO MY HOME PAGE !!!!!!!!!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ffcc"/>
                </a:solidFill>
                <a:latin typeface="Tahoma"/>
              </a:rPr>
              <a:t>I KISS YOU !!!!!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1295280" y="1752480"/>
            <a:ext cx="7315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00"/>
                </a:solidFill>
                <a:latin typeface="Tahoma"/>
              </a:rPr>
              <a:t>How could the digital divide be reduced?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1295280" y="1752480"/>
            <a:ext cx="73152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Some cities have used taxpayer dollars to offer wireless Internet access to everyone. Is that a good idea, or a bad one? Why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1"/>
          <p:cNvSpPr/>
          <p:nvPr/>
        </p:nvSpPr>
        <p:spPr>
          <a:xfrm>
            <a:off x="1219320" y="609480"/>
            <a:ext cx="72388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b7ecff"/>
                </a:solidFill>
                <a:latin typeface="Tahoma"/>
              </a:rPr>
              <a:t>Discussion Questions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1295280" y="1752480"/>
            <a:ext cx="731520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Is </a:t>
            </a:r>
            <a:r>
              <a:rPr b="0" lang="ja-JP" sz="47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Net Neutrality</a:t>
            </a:r>
            <a:r>
              <a:rPr b="0" lang="ja-JP" sz="4700" spc="-1" strike="noStrike">
                <a:solidFill>
                  <a:srgbClr val="ffff00"/>
                </a:solidFill>
                <a:latin typeface="Tahoma"/>
              </a:rPr>
              <a:t>”</a:t>
            </a:r>
            <a:r>
              <a:rPr b="0" lang="en-US" sz="4700" spc="-1" strike="noStrike">
                <a:solidFill>
                  <a:srgbClr val="ffff00"/>
                </a:solidFill>
                <a:latin typeface="Tahoma"/>
              </a:rPr>
              <a:t> the right approach, or should companies be allowed to make the net faster for some users than for others? Why?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590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0663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cff"/>
                </a:solidFill>
                <a:latin typeface="Tahoma"/>
              </a:rPr>
              <a:t>Networks and Digital Distrib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6680" y="6172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2011, Oxford University Press, In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990720" y="9144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Converging Media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 New Introduction to Mass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8"/>
          <p:cNvSpPr/>
          <p:nvPr/>
        </p:nvSpPr>
        <p:spPr>
          <a:xfrm>
            <a:off x="1219320" y="609480"/>
            <a:ext cx="7238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5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990720" y="2133720"/>
            <a:ext cx="79246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66ffcc"/>
                </a:solidFill>
                <a:latin typeface="Tahoma"/>
              </a:rPr>
              <a:t>Networked computers have shifted control away from centralized authorities … and toward the rest of us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Digital Distribution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295280" y="1752480"/>
            <a:ext cx="7315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00"/>
                </a:solidFill>
                <a:latin typeface="Tahoma"/>
              </a:rPr>
              <a:t>Shift from unidirectional model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00"/>
                </a:solidFill>
                <a:latin typeface="Tahoma"/>
              </a:rPr>
              <a:t>Shift to public, multidirectional system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Historical Influence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295280" y="1752480"/>
            <a:ext cx="7315200" cy="55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ime-space compress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Speed of communication: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ransportation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elegraph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	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— </a:t>
            </a:r>
            <a:r>
              <a:rPr b="0" lang="en-US" sz="4500" spc="-1" strike="noStrike">
                <a:solidFill>
                  <a:srgbClr val="cc66ff"/>
                </a:solidFill>
                <a:latin typeface="Tahoma"/>
              </a:rPr>
              <a:t>Telephone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Historical Influences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1295280" y="1752480"/>
            <a:ext cx="73152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Government (postal system)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• </a:t>
            </a:r>
            <a:r>
              <a:rPr b="0" lang="en-US" sz="5900" spc="-1" strike="noStrike">
                <a:solidFill>
                  <a:srgbClr val="cc66ff"/>
                </a:solidFill>
                <a:latin typeface="Tahoma"/>
              </a:rPr>
              <a:t>Private industry (telegraph)</a:t>
            </a:r>
            <a:endParaRPr b="0" lang="en-US" sz="5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volving Technology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1295280" y="1752480"/>
            <a:ext cx="731520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Telegraph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Facsimile (fax)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6600" spc="-1" strike="noStrike">
                <a:solidFill>
                  <a:srgbClr val="66ffcc"/>
                </a:solidFill>
                <a:latin typeface="Tahoma"/>
              </a:rPr>
              <a:t>Telephon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1"/>
          <p:cNvSpPr/>
          <p:nvPr/>
        </p:nvSpPr>
        <p:spPr>
          <a:xfrm>
            <a:off x="1219320" y="609480"/>
            <a:ext cx="72388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Evolving Technology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295280" y="1752480"/>
            <a:ext cx="73152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Wireles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63972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• </a:t>
            </a:r>
            <a:r>
              <a:rPr b="0" lang="en-US" sz="7200" spc="-1" strike="noStrike">
                <a:solidFill>
                  <a:srgbClr val="66ffcc"/>
                </a:solidFill>
                <a:latin typeface="Tahoma"/>
              </a:rPr>
              <a:t>Satellite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17:04:45Z</dcterms:created>
  <dc:creator>Shawn McIntosh</dc:creator>
  <dc:description/>
  <dc:language>en-US</dc:language>
  <cp:lastModifiedBy>Technology Support Services</cp:lastModifiedBy>
  <dcterms:modified xsi:type="dcterms:W3CDTF">2013-03-06T00:16:49Z</dcterms:modified>
  <cp:revision>116</cp:revision>
  <dc:subject/>
  <dc:title>Chapter 1</dc:title>
</cp:coreProperties>
</file>